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640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47720" y="159984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640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47720" y="3966480"/>
            <a:ext cx="260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96648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599840"/>
            <a:ext cx="3941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6480"/>
            <a:ext cx="8077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2.2-</a:t>
            </a:r>
            <a:fld id="{6C1E3696-EF5B-4C4B-A2AB-C7FB0DE30913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104920" y="343080"/>
              <a:ext cx="4934160" cy="6172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143000"/>
          <a:ext cx="37339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3733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quo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first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43000" y="3276720"/>
          <a:ext cx="46450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6720"/>
                    <a:ext cx="46450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9320" y="1219320"/>
          <a:ext cx="571500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5715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ER 2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re on Fun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  Increasing, Decreasing, and Piecew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 The Algebra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3  The Composition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 Symmetry and Transfor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 Variation an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.2 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he Algebra of Functions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um, the difference, the produc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otient of two functions, and determin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s of the result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difference quotient for a fun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Sums, Differences, Products, and Quotients of Functions</a:t>
            </a:r>
            <a:endParaRPr b="0" lang="en-US" sz="3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88960"/>
            <a:ext cx="8077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unction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e domain of each function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50840" y="2971800"/>
          <a:ext cx="622476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0840" y="2971800"/>
                    <a:ext cx="62247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, find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We can fi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5) provided 5 is in the domai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. This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5 =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7 + 15 = 22 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3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7 = 2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68560" y="2654280"/>
          <a:ext cx="393984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654280"/>
                    <a:ext cx="393984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find each of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real numbers. The    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the set of all real numbers. The domai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et of numbers in the intersection of the domains—that is, the set of numbers in both domains, or all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exclude 3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other Example continued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add the stipulatio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3 is not in the domain o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971800" y="2438280"/>
          <a:ext cx="2276640" cy="20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438280"/>
                    <a:ext cx="22766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ifference Quotien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95480" y="2590920"/>
          <a:ext cx="2514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90920"/>
                    <a:ext cx="2514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990720" y="1295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io below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 quot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fi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quo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first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4038480"/>
          <a:ext cx="213516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38480"/>
                    <a:ext cx="2135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73280" y="2209680"/>
          <a:ext cx="23497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2209680"/>
                    <a:ext cx="23497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4-07T13:37:42Z</dcterms:modified>
  <cp:revision>213</cp:revision>
  <dc:subject/>
  <dc:title>No Slide Title</dc:title>
</cp:coreProperties>
</file>